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ACFA-9B68-4171-AE23-23429BDC3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012B-DB7B-42A9-AA6C-DC9645918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246B-950A-485C-A283-139876001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3A92-096B-46F3-A195-B55F1FDBE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79DCB-0FAE-43C5-B4C9-50800377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E031D-8273-469D-84E6-59BBD51F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5C545-572B-4CD0-80D7-0BF58B26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87D0A-14A5-4C7F-835F-5017FA35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8513E-6B66-45D4-AFCD-8A8F3304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BEAAA-0B84-496F-B26C-28221179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EC537-A1E3-4E34-8CE7-4F85B866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2485-327B-4D64-B766-FA5C25B1C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55708-D8BB-4D18-9F8F-6E813DA4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98BD7-E56C-4C33-95F7-5E50401E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30BE6-D00E-4F55-94BB-EDC009BC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7F020-4F51-41BD-A6B0-3A257D27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A11BD-F0DA-4DC9-B6D2-D455FFEC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B279-9132-47BA-A64A-3DDDA46D9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18D0-C121-4DCC-BD4E-5C812729F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D548-20C0-4D6D-B80B-735C47019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3005-AEE9-47D5-941F-5A3327808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5FEA-7BA0-4FED-AAE3-F0240496E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55CC-95AC-4577-985F-EBE7464A9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CC11-DC4E-4E80-9967-845D6E597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C217-02D5-46CB-A2B8-BAEE988744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FDE7-FD8C-49CE-BD30-385DD9E415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XTCGKkpWmU" TargetMode="External"/><Relationship Id="rId2" Type="http://schemas.openxmlformats.org/officeDocument/2006/relationships/hyperlink" Target="http://www.youtube.com/watch?v=KXOkNOoVFJ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7800-73FC-45CD-BBC0-537E41DCBE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mall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yourselves with those who worked with student samples from the sam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F18A-0024-4479-9241-A8C1A5AAFA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arge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your chart paper or spread out on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gallery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following focus questions during your gallery wal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o you have any insights that you would like to share with the whole grou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s this (or any part of this) like something you have used in the classroom?  Particularly in relation to misconceptions with fraction concep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CCCD-ADFC-40B2-AC30-9310E1DDC1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en Ways to Assess Without Putting a Mark on Pa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Setting and Using Criteri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Kathleen Gregory, Caren Cameron, Anne Davies, Connections Publishing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8B83-E1ED-4CED-9068-C3E30B66B3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, I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mpl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of, Les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.B. (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ecific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ing Acr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xt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50AA-C168-4F15-94A6-BE9AFDC37C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minute and think about what you’ve heard, discussed, and done during the plenary and breakout session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 idea, a comment, or a strategy, that caught your attentio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14E1-FCE1-471B-8D78-871D31ABE8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/enhance their giving of descriptive feedback through examination of student work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n their understanding of fraction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3F15-99FC-4C7B-9E8E-C17E8852AF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0AA9-A129-49FC-A666-1A28DF71D3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cing With the Stars - Best Judges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erican Idol - Taylor Hicks' Au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3B18-958F-4329-973C-52FD6E969F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066680"/>
          <a:ext cx="8458200" cy="426744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  <a:gridCol w="2133360"/>
                <a:gridCol w="2286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ivational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valuativ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tell”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ask”)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27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ake the learner feel go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encourage and support the learn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 “Good work”, “Much improved”, “Very creativ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easure student achievement with a score or gr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summariz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73%”, “Level 2”, “Needs Improvement-Satisfactory-Good-Excellent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improv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ll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the learner what needs to be improv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gives specific guidance as to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Your equations are correct.  Remember to use proper problem solving format.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for students to internalize the feedbac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k questions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which will prompt the learner to independently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I can see your pattern works for the 2 examples you have given.  Will it work for all values of n?  How would you prove this?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ocus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y overlap among the types of feedback?  How? 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certain types of feedback “better” than others?  How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certain types of feedback more appropriate for certain types of tasks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8F68-129C-4165-87FB-116BB24D1E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9880" y="1371600"/>
          <a:ext cx="8040600" cy="4044960"/>
        </p:xfrm>
        <a:graphic>
          <a:graphicData uri="http://schemas.openxmlformats.org/drawingml/2006/table">
            <a:tbl>
              <a:tblPr/>
              <a:tblGrid>
                <a:gridCol w="1865520"/>
                <a:gridCol w="1866600"/>
                <a:gridCol w="217440"/>
                <a:gridCol w="1845000"/>
                <a:gridCol w="224604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atio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“tell”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“ask”) 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motiva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evalu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primarily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ll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the student how to correct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k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student what to do to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32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to encourage and support the lear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sure student achievement with a score or a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 by indicating to the student what needs to be impr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, by moving student reasoning to the next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m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cxnSp>
        <p:nvCxnSpPr>
          <p:cNvPr id="109" name="Straight Arrow Connector 8"/>
          <p:cNvCxnSpPr/>
          <p:nvPr/>
        </p:nvCxnSpPr>
        <p:spPr>
          <a:xfrm>
            <a:off x="2057040" y="5103360"/>
            <a:ext cx="5258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s – 5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n assignment, Jaime received the following sc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A:            Section B:            Tot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ie was confused, because using what she knew about fractions, she didn’t think that              .  How  would you explain this to Ja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Show what you know about        and       .  Use different representations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Give a real life example of a problem where the solution could involve dividing by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What do you know about          ?  Use diagrams, numbers, algebra, words, etc.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Create a sentence that makes sense that includes ALL of these words and numbers:  improper, fraction, simple, challenging,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3587-7369-4785-8767-76AD2A8FA3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EAAA-F777-408A-A92D-5E6C1C1440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2565360" y="1523880"/>
                <a:ext cx="177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268360" y="3600360"/>
                <a:ext cx="169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3743280" y="3809880"/>
                <a:ext cx="4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2610000" y="16765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2743200" y="2197080"/>
                <a:ext cx="698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3962520" y="2743200"/>
                <a:ext cx="317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2"/>
              <p:cNvSpPr txBox="1"/>
              <p:nvPr/>
            </p:nvSpPr>
            <p:spPr>
              <a:xfrm>
                <a:off x="4343400" y="1523880"/>
                <a:ext cx="1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5707080" y="1523880"/>
                <a:ext cx="236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4876920" y="2751120"/>
                <a:ext cx="3045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riting 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5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1, 2, or 3 samples of student work for tha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with a partner to analyze the student thinking and write descriptive feedback using a 4-colour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98B0-9033-44CE-9128-2FE8A5D1B3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4-Colour Strateg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and paste the sample in the middle of a piece of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the following around the s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the student knows (</a:t>
            </a:r>
            <a:r>
              <a:rPr b="0" lang="en-CA" sz="2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knowledge/understanding seems fragile (</a:t>
            </a:r>
            <a:r>
              <a:rPr b="0" lang="en-CA" sz="2200" spc="-1" strike="noStrike">
                <a:solidFill>
                  <a:srgbClr val="ffc000"/>
                </a:solidFill>
                <a:latin typeface="Arial"/>
              </a:rPr>
              <a:t>orang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questions you might ask the student to expose and evoke thinking (</a:t>
            </a:r>
            <a:r>
              <a:rPr b="0" lang="en-CA" sz="2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a descriptive feedback comment might look like on the student work based on the above thinking (bl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F27F-C5BD-41BF-9483-36E519DA7E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09T19:02:08Z</dcterms:modified>
  <cp:revision>23</cp:revision>
  <dc:subject/>
  <dc:title>&lt;Title&gt;</dc:title>
</cp:coreProperties>
</file>